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25B-6B27-4417-974F-0DAC8650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8BF-F84D-4D1A-8D67-B1402F79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445-E36E-4735-ABEF-98EE420F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09E-FAE7-4B0E-BD4A-12722BA6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7EFA-67E7-49FB-BD50-1C89AAF6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4FD5-8612-42D0-B958-A93F634D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686C-BDCD-4142-A5B9-4E71D6DF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C214-EF54-4DAA-9BB6-40B67500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44E9-1FAB-40CB-A0DF-FF6D59F9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7161-5736-43F3-8B07-28B2BB7A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58EF-67BE-4231-A44D-F468187C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FFF8-3470-4CF9-A2DE-45D44E76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CCAD-420B-4AC6-BCCD-68E305B4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DC06-5821-4241-BE5A-C0801AB0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3C6D-0760-4693-BC0C-9A24F6DD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DB67-3E8C-4F24-81CA-27E503A2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F82B-DFBD-4507-9E29-894569F9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8594-941B-4B68-9803-B377BE36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CBA-7C3A-4193-9344-1E10D4FF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60F-851D-46EE-9AD0-0D62AABD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DAA3-205F-43E4-A928-8F241806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D75-E36B-41B5-BF00-CBC4AF04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4CB-8C69-4067-833F-E69EE9AA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B638-617A-4596-8BE4-AF5A750C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E7D6-A757-4912-81FB-39DB1D7F07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4E49-3424-4630-87B7-E53E10DC0B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5240" y="304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Me llamo________  Clase 8 IM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La fecha es el 28 de septiembre del 2012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0000"/>
                </a:solidFill>
                <a:latin typeface="Verdana"/>
              </a:rPr>
              <a:t>Propósito # 4:</a:t>
            </a:r>
            <a:r>
              <a:rPr b="0" lang="es-ES_tradnl" sz="29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Un Repaso de los Pronombres de Objeto Directo</a:t>
            </a:r>
            <a:r>
              <a:rPr b="0" lang="es-ES_tradnl" sz="29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Rewrite using the Direct Object Pronou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Teresa compró la crema protector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Carlos compró el bañador ay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Carlos y Teresa pasaron el día en la play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Rafael compró los anteojos de sol ay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Yo tomé las fotos en la play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Carmen miró las fot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90360" y="304560"/>
            <a:ext cx="800100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Verdana"/>
              </a:rPr>
              <a:t>Direct Object (Objeto Directo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Takes the action of the verb. Answers </a:t>
            </a:r>
            <a:r>
              <a:rPr b="0" i="1" lang="es-ES_tradnl" sz="2500" spc="-1" strike="noStrike">
                <a:solidFill>
                  <a:srgbClr val="000000"/>
                </a:solidFill>
                <a:latin typeface="Verdana"/>
              </a:rPr>
              <a:t>What? / Whom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s-ES_tradnl" sz="2500" spc="-1" strike="noStrike">
                <a:solidFill>
                  <a:srgbClr val="008000"/>
                </a:solidFill>
                <a:latin typeface="Verdana"/>
              </a:rPr>
              <a:t>Amadeus  tap da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s-ES_tradnl" sz="2500" spc="-1" strike="noStrike">
                <a:solidFill>
                  <a:srgbClr val="800080"/>
                </a:solidFill>
                <a:latin typeface="Verdana"/>
              </a:rPr>
              <a:t>Amadeus baila  ta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sculine, singul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minine, singul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Verdana"/>
              </a:rPr>
              <a:t>      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sculine, plur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Verdana"/>
              </a:rPr>
              <a:t>      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minine, plur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cc"/>
                </a:solidFill>
                <a:latin typeface="Verdana"/>
              </a:rPr>
              <a:t>D.O.P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Verdana"/>
              </a:rPr>
              <a:t>(P.O.D.)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always agree in gender/number with the noun it replac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962520"/>
            <a:ext cx="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222480" y="465264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. O.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39625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571500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7560" y="403848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92240" y="441972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20960" y="487692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8320" y="525780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1752480"/>
            <a:ext cx="9907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791320" y="1752120"/>
            <a:ext cx="304560" cy="2286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77840" y="1828800"/>
            <a:ext cx="3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334120" y="2057040"/>
            <a:ext cx="304560" cy="2286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2514600"/>
            <a:ext cx="7621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1447920"/>
            <a:ext cx="60948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1752480"/>
            <a:ext cx="381240" cy="533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209680"/>
            <a:ext cx="60948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1676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D.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09120" y="274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irect Object PRONOUN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PRONOMBRES de Objeto Directo)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75960"/>
            <a:ext cx="73134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Practica: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Rewrite and replace the Direct Object with the Direct Object Pronou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Martín entendió la clase de algebr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Rosa montó bicicleta en el parqu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Patricio escribe una novela en francé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 doctor examina los oj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405080" y="251460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Martín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entendi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85280" y="237636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2438280"/>
            <a:ext cx="16765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1981080"/>
            <a:ext cx="38862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12440" y="2286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D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680" y="380520"/>
            <a:ext cx="784872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cc"/>
                </a:solidFill>
                <a:latin typeface="Verdana"/>
              </a:rPr>
              <a:t>5.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los traen un vas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cc"/>
                </a:solidFill>
                <a:latin typeface="Verdana"/>
              </a:rPr>
              <a:t>6.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No veo la pizarr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cc"/>
                </a:solidFill>
                <a:latin typeface="Verdana"/>
              </a:rPr>
              <a:t>7.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No escribimos los ensay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cc"/>
                </a:solidFill>
                <a:latin typeface="Verdana"/>
              </a:rPr>
              <a:t>8.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 maestro explica la lecció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cc"/>
                </a:solidFill>
                <a:latin typeface="Verdana"/>
              </a:rPr>
              <a:t>9.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Tenemos el anorak aquí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cc"/>
                </a:solidFill>
                <a:latin typeface="Verdana"/>
              </a:rPr>
              <a:t>10.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La señora no vende fruta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area # 4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leta la hoja distribuid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01:07:33Z</dcterms:created>
  <dc:creator>Helen Zumaeta</dc:creator>
  <dc:description/>
  <dc:language>en-US</dc:language>
  <cp:lastModifiedBy>Helen Zumaeta</cp:lastModifiedBy>
  <dcterms:modified xsi:type="dcterms:W3CDTF">2012-09-28T19:40:16Z</dcterms:modified>
  <cp:revision>10</cp:revision>
  <dc:subject/>
  <dc:title>Me llamo________ Clase 9 IM  La fecha es el 25 de septiembre del 2012</dc:title>
</cp:coreProperties>
</file>